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8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896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01436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D3D32B1-90DE-4096-B3CC-A98205A2E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886BED8-8010-4F27-8A35-EC96775A0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B2CBEC9-1472-41C3-A3D7-5A178412C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AC6C1A7-8CFE-4EEF-BFC8-65CB2A47F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350E21B-6B90-493C-ACCE-B2D6E4C12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DDFD2FA-8DDE-442C-B1FA-6E5C96C6C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D5F37C9-332E-451D-B2C5-00ED6C7E8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9514F05-12CA-42EB-9D54-5FDFA2D08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0CB0FC0-6DD0-4DEB-AC0F-9CD13792D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92F1D6D-5A25-4893-9265-C78C64A2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2AB255A-8D47-4EDE-9FDE-ACFF2B27D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BE65455-5460-443C-AEB8-41C8E23D1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ED32B6F-AC93-49CD-B5B5-886747083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36F08EF-3451-4782-AF5C-E56000B5F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17221D3-6940-4AA3-969B-C8D13D64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human_legacy_CONTENT_full"/>
          <p:cNvPicPr/>
          <p:nvPr/>
        </p:nvPicPr>
        <p:blipFill>
          <a:blip r:embed="rId2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human_legacy_CONTENT_full"/>
          <p:cNvPicPr/>
          <p:nvPr/>
        </p:nvPicPr>
        <p:blipFill>
          <a:blip r:embed="rId3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8" descr="human_legacy_CONTENT_full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Text Box 19"/>
          <p:cNvSpPr/>
          <p:nvPr/>
        </p:nvSpPr>
        <p:spPr>
          <a:xfrm>
            <a:off x="152280" y="39600"/>
            <a:ext cx="51818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Kingdoms and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0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1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3"/>
          <p:cNvSpPr/>
          <p:nvPr/>
        </p:nvSpPr>
        <p:spPr>
          <a:xfrm>
            <a:off x="6915240" y="617220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4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 / 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s and Ki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: The Growth of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 in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 under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s of History: Alexander Nev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Rise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863640"/>
            <a:ext cx="8229600" cy="207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Christianity spread to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82760" y="32274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ks from the Byzantine Empire traveled to Moravia and established the Cyrillic alphabet and a Slavonic mass to spread Christia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3"/>
          <p:cNvGrpSpPr/>
          <p:nvPr/>
        </p:nvGrpSpPr>
        <p:grpSpPr>
          <a:xfrm>
            <a:off x="533520" y="2509920"/>
            <a:ext cx="2590560" cy="3433320"/>
            <a:chOff x="533520" y="2509920"/>
            <a:chExt cx="2590560" cy="3433320"/>
          </a:xfrm>
        </p:grpSpPr>
        <p:sp>
          <p:nvSpPr>
            <p:cNvPr id="92" name="Text Box 4"/>
            <p:cNvSpPr/>
            <p:nvPr/>
          </p:nvSpPr>
          <p:spPr>
            <a:xfrm>
              <a:off x="533520" y="2879280"/>
              <a:ext cx="2590560" cy="30639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fter death of Yaroslav, internal disputes common among R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 threat from princes whose lands were within state’s b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33520" y="2509920"/>
              <a:ext cx="2590560" cy="3693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2"/>
          <p:cNvSpPr/>
          <p:nvPr/>
        </p:nvSpPr>
        <p:spPr>
          <a:xfrm>
            <a:off x="533520" y="1143000"/>
            <a:ext cx="8076960" cy="119124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he mid-1000s, Kievan Rus reached the height of its power as a center of trade and culture. But by the end of the 1200s, it had suffered a steep decline. Kievan Rus was under attack—first by princes within its borders, and later by invaders from bey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3276720" y="2509920"/>
            <a:ext cx="2590560" cy="3433320"/>
            <a:chOff x="3276720" y="2509920"/>
            <a:chExt cx="2590560" cy="3433320"/>
          </a:xfrm>
        </p:grpSpPr>
        <p:sp>
          <p:nvSpPr>
            <p:cNvPr id="96" name="Text Box 7"/>
            <p:cNvSpPr/>
            <p:nvPr/>
          </p:nvSpPr>
          <p:spPr>
            <a:xfrm>
              <a:off x="3276720" y="2879280"/>
              <a:ext cx="2590560" cy="30639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nces wanted to enlarge 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69, one such prince, Andrew Bogolyubsky, captured Kiev, became new grand pri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3276720" y="2509920"/>
              <a:ext cx="2590560" cy="3693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ogolyubsk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6019920" y="2509920"/>
            <a:ext cx="2590560" cy="3433320"/>
            <a:chOff x="6019920" y="2509920"/>
            <a:chExt cx="2590560" cy="3433320"/>
          </a:xfrm>
        </p:grpSpPr>
        <p:sp>
          <p:nvSpPr>
            <p:cNvPr id="99" name="Text Box 10"/>
            <p:cNvSpPr/>
            <p:nvPr/>
          </p:nvSpPr>
          <p:spPr>
            <a:xfrm>
              <a:off x="6019920" y="2879280"/>
              <a:ext cx="2590560" cy="30639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rew insisted on ruling from home city, Vladim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urther weakened Kiev’s position as the capi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ge set for fierce attacks from Europe, As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6019920" y="2509920"/>
              <a:ext cx="2590560" cy="3693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tage 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1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 unde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335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ievan Rus Weak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ong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s, Mongols, led by Genghis Khan, swept across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ghis Khan and Mongols created immens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 raiders defeated Rus and their allies in 12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aster 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s mostly left local princes in charge, did not interfere with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 Alexander encouraged Russians not to rebel against new m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result Mongols did not destroy as much as in other 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 of Kievan Ru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27, Genghis Khan died, empire divided into four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0, Kiev fell to Mongols led by Batu K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 state established in southern Russia; Kievan Rus dominance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hreat from th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109" name="Text Box 3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me Prince Alexander who calmed Mongol threat, turned attention to Swe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ly 15, 1240, Alexander launched surprise attack against Swedish camp on Neva 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edes defeated; Russia saved from full-scale invasion from no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ce Alexa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112" name="Text Box 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 same time Mongols attacked Rus, danger came from different dir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40, band of Swedes invaded Russian territory north of Novgor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edes wanted to take control of lucrative trade route between Russia, Byzantine Emp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we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hreat from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57200" y="1143000"/>
            <a:ext cx="8229600" cy="13453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 known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ander Nevs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ter vi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ished by city of Novgorod after meddling in internal af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other invader threatened, Novgorod turned again to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457200" y="2590920"/>
            <a:ext cx="4038120" cy="3351960"/>
            <a:chOff x="457200" y="2590920"/>
            <a:chExt cx="4038120" cy="3351960"/>
          </a:xfrm>
        </p:grpSpPr>
        <p:sp>
          <p:nvSpPr>
            <p:cNvPr id="117" name="Text Box 4"/>
            <p:cNvSpPr/>
            <p:nvPr/>
          </p:nvSpPr>
          <p:spPr>
            <a:xfrm>
              <a:off x="457200" y="3177000"/>
              <a:ext cx="4038120" cy="27658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man military order of knights wanted to force Russians to abandon Orthodox Church, convert to Roman Catholic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utonic Knights invaded from Baltic Sea; Alexander fought several battles with th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457200" y="2590920"/>
              <a:ext cx="4038120" cy="5860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eutonic Kn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6"/>
          <p:cNvGrpSpPr/>
          <p:nvPr/>
        </p:nvGrpSpPr>
        <p:grpSpPr>
          <a:xfrm>
            <a:off x="4648320" y="2590920"/>
            <a:ext cx="4038120" cy="3351960"/>
            <a:chOff x="4648320" y="2590920"/>
            <a:chExt cx="4038120" cy="3351960"/>
          </a:xfrm>
        </p:grpSpPr>
        <p:sp>
          <p:nvSpPr>
            <p:cNvPr id="120" name="Text Box 7"/>
            <p:cNvSpPr/>
            <p:nvPr/>
          </p:nvSpPr>
          <p:spPr>
            <a:xfrm>
              <a:off x="4648320" y="3177000"/>
              <a:ext cx="4038120" cy="27658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ril 1242, Alexander’s army lured Knights onto thinning 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ce cracked; men, horses fell into freezing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ttle known as massacre on the ice, one of Russia’s most fam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vsky celebrated as h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4648320" y="2590920"/>
              <a:ext cx="4038120" cy="5860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ssacre on the 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asion from the Ba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p359"/>
          <p:cNvPicPr/>
          <p:nvPr/>
        </p:nvPicPr>
        <p:blipFill>
          <a:blip r:embed="rId1"/>
          <a:stretch/>
        </p:blipFill>
        <p:spPr>
          <a:xfrm>
            <a:off x="1122480" y="878040"/>
            <a:ext cx="68976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33520" y="1143000"/>
            <a:ext cx="8076960" cy="762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re than 200 years after Alexander’s battles, Russia remained under the control of Asian nomadic people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126" name="Text Box 4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f8c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tars, central Asian people who spoke a Turkic language, emerged as Russia’s rulers after Mong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80, Russia eventually freed from foreign domin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f8c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at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129" name="Text Box 7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scovy, east of Kiev, grew in importance within Russ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came capital of nation that gradually expanded to occupy much of As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uscov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Kiev to Musc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" y="825480"/>
            <a:ext cx="8229600" cy="261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eople first invaded Russia in 1223? What other groups inva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82760" y="37227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gols; Swedes, Ger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the Rus affect the early history of Kiev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factors helped establish Christianity in Russi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peoples attacked Russi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as a blend of Slavs and northern Europeans, the Russians organized as a state, became Christian, and fought inva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se of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1143000"/>
            <a:ext cx="8076960" cy="762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ousands of years, hunter-gatherers managed to make a living in the sometimes harsh climate of what we now call Ukraine and Russi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59" name="Text Box 4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avs among those who occupied pla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ered historical record AD 800s, as written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he Russian Primary Chron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uring mid-800s, Slavs along Dnieper River fighting among selves; asked for help from northern Europeans, called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Rus of Kie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6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62" name="Text Box 7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ree brothers, Rus people migrated to Novgorod, trading center; oldest brother, Rurik, brought order to Slav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82, Rurik’s successor, Oleg, ventured further south to Kiev, united reg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7 Oleg wanted to extend Kiev south, successfully attacked Constantino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r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us and Ki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57200" y="3352680"/>
            <a:ext cx="8229600" cy="243864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roslav th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van region became state called Kievan 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height of Kievan Rus’ power, prestige, ruler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roslav the 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19, Yaroslav became grand prince, ruled until 10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many cultural, administrative improvements to Kievan 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57200" y="914400"/>
            <a:ext cx="8229600" cy="22096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K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g’s victory produced advantageous trade agreement, beginning of close connection between Byzantine Empire, Russia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900s, Rus extended control far beyond Ki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 Khazars, freed several Slavic tribes Khazars had contro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ural and Administrativ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ed religious books, hired scribes to translate from Greek into Slav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an ambitious building program to beautify Ki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record was m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ined lost territory, defeated nomadic Pechen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ed to attack Constantinople, but forces were cru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successful dealing with western Eur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good diplomatic, trade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ed marriages between daughters, European pri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p357"/>
          <p:cNvPicPr/>
          <p:nvPr/>
        </p:nvPicPr>
        <p:blipFill>
          <a:blip r:embed="rId1"/>
          <a:stretch/>
        </p:blipFill>
        <p:spPr>
          <a:xfrm>
            <a:off x="2540160" y="658800"/>
            <a:ext cx="4367160" cy="52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888840"/>
            <a:ext cx="8229600" cy="24894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Rus, and what was their connection to Kie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82760" y="36338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roup of northern Europeans—perhaps Vikings—who came to rule the Sla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9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76" name="Text Box 20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d Slavonic language to celebrate mass; use of native language helped convert many Moravia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two developed written alphabet for Slavonic language, based on Greek alphabet, called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rillic alphab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anks to Cyril, Methodius Byzantine version of Christianity spread to Russ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1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lavonic 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79" name="Text Box 2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Byzantine Empire affected Russia not only with warfare, trade, but also with Christian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fore Rurik, Oleg, Slavs practiced native religion based on nature, with many g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63, Constantinople churchman sent two Greek monks to Moravia to convert Slavs to Christianity, brother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ril and Methodi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yril and Methodi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2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ianity in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1143000"/>
            <a:ext cx="8229600" cy="1594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abl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convert, Grand Du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adimir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Ki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ptized a Christian; married sister of a Byzantine empe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helped gain economic, political advantages from Byzantin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4129200"/>
            <a:ext cx="8229600" cy="159408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ussian Orthodox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1054 schism, semi-independent church set up in Russia still linked to Orthodox Church in Constantin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ually became Russian Orthodox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imir made saint in new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7200" y="2771640"/>
            <a:ext cx="8229600" cy="131976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conversion politically motivated, he built libraries, schools, chu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988, Vladimir made Christianity state religion of Kievan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spread, but tensions between branches of church grew w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ian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IT User</cp:lastModifiedBy>
  <cp:lastPrinted>2005-02-01T16:21:45Z</cp:lastPrinted>
  <dcterms:modified xsi:type="dcterms:W3CDTF">2011-04-04T06:58:52Z</dcterms:modified>
  <cp:revision>239</cp:revision>
  <dc:subject/>
  <dc:title>PowerPoint Presentation</dc:title>
</cp:coreProperties>
</file>